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wmf" ContentType="image/x-wmf"/>
  <Override PartName="/ppt/media/image7.png" ContentType="image/pn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25308-F623-402C-AA29-098E98BB5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C67E9-92F2-4535-8338-123097686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7FC02-7663-4F67-8D1D-E6AAF30F9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6CAA3-6991-4B13-8858-63183AFE2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5C5C7-C03E-451D-9DD9-415E94609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2BEFD-3766-4F13-9C86-815E525E9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F502A-4068-49F2-9453-5507564CF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40BBD-A120-421A-BF51-BA3C76D00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021FF-9109-4405-A5AD-FE660930F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D5B9C-725B-4D48-B30F-7A866799F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EFB2E-63BA-4B88-B791-D4F931495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780AC-6FD6-411B-9B6D-F701B1FAA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65288-0B9F-400F-8A17-C47B0C910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5487A-6F93-4B01-886D-E4B58F9D6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11C7F-8DF2-4CCF-9513-B70EDC149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EB827-9986-41FE-A38C-9F5193948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0D435-B359-4F5D-B2BC-6D72F5808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FFCA2-4EAB-4935-B67C-9F7A1D8F9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1470F-ABD3-4710-AA8A-AAF0EA117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7D1DD-8523-4AAA-A05C-687630FE3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A4946-C691-47BE-A3E3-D9B3CB0DA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17EC4-EAE2-408B-855C-67273859D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76D0B-EFDF-4BDC-9794-82C19AB06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F9BF0-A191-491D-95FB-C4B24E4AB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BEDEB-9EFA-49A0-A39D-8C1B3CDB8B4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4DA40-0A80-42C1-98B3-C9708E48302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image" Target="../media/image6.wmf"/><Relationship Id="rId6" Type="http://schemas.openxmlformats.org/officeDocument/2006/relationships/image" Target="../media/image6.wmf"/><Relationship Id="rId7" Type="http://schemas.openxmlformats.org/officeDocument/2006/relationships/image" Target="../media/image6.wmf"/><Relationship Id="rId8" Type="http://schemas.openxmlformats.org/officeDocument/2006/relationships/image" Target="../media/image6.wmf"/><Relationship Id="rId9" Type="http://schemas.openxmlformats.org/officeDocument/2006/relationships/image" Target="../media/image6.wmf"/><Relationship Id="rId10" Type="http://schemas.openxmlformats.org/officeDocument/2006/relationships/image" Target="../media/image6.wmf"/><Relationship Id="rId11" Type="http://schemas.openxmlformats.org/officeDocument/2006/relationships/image" Target="../media/image6.wmf"/><Relationship Id="rId12" Type="http://schemas.openxmlformats.org/officeDocument/2006/relationships/image" Target="../media/image6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hyperlink" Target="http://www.brainpop.com/video_tutorials/brainpop_on_an_interactive_whiteboard/" TargetMode="External"/><Relationship Id="rId16" Type="http://schemas.openxmlformats.org/officeDocument/2006/relationships/hyperlink" Target="http://www.brainpop.com/video_tutorials/activotes/index.weml" TargetMode="External"/><Relationship Id="rId17" Type="http://schemas.openxmlformats.org/officeDocument/2006/relationships/image" Target="../media/image7.png"/><Relationship Id="rId18" Type="http://schemas.openxmlformats.org/officeDocument/2006/relationships/image" Target="../media/image7.png"/><Relationship Id="rId19" Type="http://schemas.openxmlformats.org/officeDocument/2006/relationships/image" Target="../media/image6.wmf"/><Relationship Id="rId20" Type="http://schemas.openxmlformats.org/officeDocument/2006/relationships/image" Target="../media/image6.wmf"/><Relationship Id="rId21" Type="http://schemas.openxmlformats.org/officeDocument/2006/relationships/image" Target="../media/image6.wmf"/><Relationship Id="rId22" Type="http://schemas.openxmlformats.org/officeDocument/2006/relationships/image" Target="../media/image6.wmf"/><Relationship Id="rId23" Type="http://schemas.openxmlformats.org/officeDocument/2006/relationships/image" Target="../media/image6.wmf"/><Relationship Id="rId24" Type="http://schemas.openxmlformats.org/officeDocument/2006/relationships/image" Target="../media/image6.wmf"/><Relationship Id="rId25" Type="http://schemas.openxmlformats.org/officeDocument/2006/relationships/image" Target="../media/image8.jpeg"/><Relationship Id="rId26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hyperlink" Target="https://secure.brainpop.com/help/subscription_options/" TargetMode="Externa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772400" cy="13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9900"/>
                </a:solidFill>
                <a:latin typeface="Comic Sans MS"/>
              </a:rPr>
              <a:t>Technology Initiative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7086600" y="63244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By: Kristy Hanki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133720" y="1905120"/>
            <a:ext cx="4647960" cy="464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914400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00"/>
                </a:solidFill>
                <a:latin typeface="Comic Sans MS"/>
              </a:rPr>
              <a:t>Are our students really engaged?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w can we keep our students engaged and excited about our lesson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w can we increase student achievement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an technology help me get my students excited about learning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4"/>
          <a:stretch/>
        </p:blipFill>
        <p:spPr>
          <a:xfrm>
            <a:off x="5410080" y="1143000"/>
            <a:ext cx="2590920" cy="20955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5"/>
          <a:stretch/>
        </p:blipFill>
        <p:spPr>
          <a:xfrm>
            <a:off x="4724280" y="4419720"/>
            <a:ext cx="3505320" cy="214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55627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00"/>
                </a:solidFill>
                <a:latin typeface="Comic Sans MS"/>
              </a:rPr>
              <a:t>What is BrainPOP?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-360" y="837720"/>
            <a:ext cx="44197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Animated curriculum based content that supports educators and engages student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Also available a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80000"/>
              </a:lnSpc>
              <a:spcBef>
                <a:spcPts val="4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BrainPOP Jr. (k-3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80000"/>
              </a:lnSpc>
              <a:spcBef>
                <a:spcPts val="4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BrainPOP Espa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ño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80000"/>
              </a:lnSpc>
              <a:spcBef>
                <a:spcPts val="4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BrainPOP Educator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Resources Include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80000"/>
              </a:lnSpc>
              <a:spcBef>
                <a:spcPts val="4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Movie Clip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80000"/>
              </a:lnSpc>
              <a:spcBef>
                <a:spcPts val="4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Quizz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80000"/>
              </a:lnSpc>
              <a:spcBef>
                <a:spcPts val="4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Experim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80000"/>
              </a:lnSpc>
              <a:spcBef>
                <a:spcPts val="4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Timelin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80000"/>
              </a:lnSpc>
              <a:spcBef>
                <a:spcPts val="4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Activity Pag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Can be used in many content areas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80000"/>
              </a:lnSpc>
              <a:spcBef>
                <a:spcPts val="4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Language Ar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80000"/>
              </a:lnSpc>
              <a:spcBef>
                <a:spcPts val="4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Math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80000"/>
              </a:lnSpc>
              <a:spcBef>
                <a:spcPts val="4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cien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80000"/>
              </a:lnSpc>
              <a:spcBef>
                <a:spcPts val="4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ocial Studi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80000"/>
              </a:lnSpc>
              <a:spcBef>
                <a:spcPts val="4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Health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80000"/>
              </a:lnSpc>
              <a:spcBef>
                <a:spcPts val="4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Art/Musi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80000"/>
              </a:lnSpc>
              <a:spcBef>
                <a:spcPts val="4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Technolog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5486400" y="228600"/>
            <a:ext cx="2095560" cy="198108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3657600" y="2590920"/>
            <a:ext cx="5486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Comic Sans MS"/>
                <a:ea typeface="Arial"/>
              </a:rPr>
              <a:t>How can BrainPOP be used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962520" y="3581280"/>
            <a:ext cx="4724280" cy="28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  <a:ea typeface="Arial"/>
              </a:rPr>
              <a:t>Introducing a new lesson or topi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  <a:ea typeface="Arial"/>
              </a:rPr>
              <a:t>Illustrating complex subject matt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  <a:ea typeface="Arial"/>
              </a:rPr>
              <a:t>Review before a tes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  <a:ea typeface="Arial"/>
              </a:rPr>
              <a:t>Summarize a concept previously taugh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  <a:ea typeface="Arial"/>
              </a:rPr>
              <a:t>Engage Stude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  <a:ea typeface="Arial"/>
              </a:rPr>
              <a:t>Improve Student Achievem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44440"/>
            <a:ext cx="2793960" cy="6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00"/>
                </a:solidFill>
                <a:latin typeface="Comic Sans MS"/>
              </a:rPr>
              <a:t>Teachers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312444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rainPOP Educat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Lesson Pla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ideo Tutoria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All lessons align with state standar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Activity Shee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Graphic Organiz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fessional Develop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6171840" y="837720"/>
            <a:ext cx="2971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Interactive Activit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Interactive Word Wal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Quizz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ideo Tutoria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lates topics to the real wor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FYI Readin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Gam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5181480" y="5486400"/>
          <a:ext cx="4635360" cy="1158840"/>
        </p:xfrm>
        <a:graphic>
          <a:graphicData uri="http://schemas.openxmlformats.org/drawingml/2006/table">
            <a:tbl>
              <a:tblPr/>
              <a:tblGrid>
                <a:gridCol w="4635360"/>
              </a:tblGrid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Video Tutorials: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1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4" name=""/>
          <p:cNvGraphicFramePr/>
          <p:nvPr/>
        </p:nvGraphicFramePr>
        <p:xfrm>
          <a:off x="3200400" y="3429000"/>
          <a:ext cx="2286000" cy="700200"/>
        </p:xfrm>
        <a:graphic>
          <a:graphicData uri="http://schemas.openxmlformats.org/drawingml/2006/table">
            <a:tbl>
              <a:tblPr/>
              <a:tblGrid>
                <a:gridCol w="2286000"/>
              </a:tblGrid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9900"/>
                          </a:solidFill>
                          <a:latin typeface="Comic Sans MS"/>
                          <a:ea typeface="Arial"/>
                        </a:rPr>
                        <a:t>Parents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5" name=""/>
          <p:cNvGraphicFramePr/>
          <p:nvPr/>
        </p:nvGraphicFramePr>
        <p:xfrm>
          <a:off x="4952880" y="5638680"/>
          <a:ext cx="4616640" cy="911520"/>
        </p:xfrm>
        <a:graphic>
          <a:graphicData uri="http://schemas.openxmlformats.org/drawingml/2006/table">
            <a:tbl>
              <a:tblPr/>
              <a:tblGrid>
                <a:gridCol w="979560"/>
                <a:gridCol w="363708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  </a:t>
                      </a: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 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 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99ff66"/>
                          </a:solidFill>
                          <a:uFillTx/>
                          <a:latin typeface="Arial"/>
                          <a:ea typeface="Arial"/>
                          <a:hlinkClick r:id="rId15"/>
                        </a:rPr>
                        <a:t>BrainPOP on an Interactive Whiteboard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  </a:t>
                      </a: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 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 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99ff66"/>
                          </a:solidFill>
                          <a:uFillTx/>
                          <a:latin typeface="Arial"/>
                          <a:ea typeface="Arial"/>
                          <a:hlinkClick r:id="rId16"/>
                        </a:rPr>
                        <a:t>Using BrainPOP With Electronic Voting Devic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16" name="" descr=""/>
          <p:cNvPicPr/>
          <p:nvPr/>
        </p:nvPicPr>
        <p:blipFill>
          <a:blip r:embed="rId17"/>
          <a:stretch/>
        </p:blipFill>
        <p:spPr>
          <a:xfrm>
            <a:off x="5486400" y="5791320"/>
            <a:ext cx="237960" cy="2379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18"/>
          <a:stretch/>
        </p:blipFill>
        <p:spPr>
          <a:xfrm>
            <a:off x="5486400" y="6172200"/>
            <a:ext cx="237960" cy="23796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6324480" y="304920"/>
            <a:ext cx="31244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00"/>
                </a:solidFill>
                <a:latin typeface="Comic Sans MS"/>
                <a:ea typeface="Arial"/>
              </a:rPr>
              <a:t>Student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828800" y="3962520"/>
            <a:ext cx="6477120" cy="322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SzPct val="102792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  <a:ea typeface="Arial"/>
              </a:rPr>
              <a:t>Access to all resour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SzPct val="102792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  <a:ea typeface="Arial"/>
              </a:rPr>
              <a:t>Great for reviewing concep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SzPct val="102792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  <a:ea typeface="Arial"/>
              </a:rPr>
              <a:t>Children who are more excited about learn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SzPct val="102792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  <a:ea typeface="Arial"/>
              </a:rPr>
              <a:t>24/7 Accou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SzPct val="102792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  <a:ea typeface="Arial"/>
              </a:rPr>
              <a:t>Family Accou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SzPct val="102792"/>
              <a:buBlip>
                <a:blip r:embed="rId2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  <a:ea typeface="Arial"/>
              </a:rPr>
              <a:t>After-Hours Accou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5"/>
          <a:stretch/>
        </p:blipFill>
        <p:spPr>
          <a:xfrm>
            <a:off x="3505320" y="533520"/>
            <a:ext cx="2457360" cy="285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-305280" y="304560"/>
            <a:ext cx="495324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Comic Sans MS"/>
              </a:rPr>
              <a:t>How much does it cost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495680" y="-381240"/>
            <a:ext cx="464832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lassroom -- $19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Media Lab -- $59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chool -- $99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District – Prices V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48680" y="2666880"/>
            <a:ext cx="6247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Comic Sans MS"/>
                <a:ea typeface="Arial"/>
              </a:rPr>
              <a:t>What do I need to do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62120" y="3429000"/>
            <a:ext cx="883908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Attend monthly meetings for training sess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Every other month after faculty meet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Every other month as departm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Evaluate student test scores to check for improvemen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Classroom observations/vide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Complete survey at the end of the yea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304920" y="1295280"/>
            <a:ext cx="1904760" cy="14256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7696080" y="2438280"/>
            <a:ext cx="1447920" cy="236232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2209680" y="1905120"/>
            <a:ext cx="67820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819520" y="1905120"/>
            <a:ext cx="60958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ff66"/>
                </a:solidFill>
                <a:uFillTx/>
                <a:latin typeface="Arial"/>
                <a:ea typeface="Arial"/>
                <a:hlinkClick r:id="rId3"/>
              </a:rPr>
              <a:t>https://secure.brainpop.com/help/subscription_options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5T19:54:47Z</dcterms:created>
  <dc:creator>KEMERSON</dc:creator>
  <dc:description/>
  <dc:language>en-US</dc:language>
  <cp:lastModifiedBy>Kristy Hankins</cp:lastModifiedBy>
  <dcterms:modified xsi:type="dcterms:W3CDTF">2010-08-19T17:52:37Z</dcterms:modified>
  <cp:revision>5</cp:revision>
  <dc:subject/>
  <dc:title>BrainPOP</dc:title>
</cp:coreProperties>
</file>